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A755-D097-4304-99D2-7FBEB50A8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A65C-22A3-4F70-A08D-6EEE9A816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F24-8B58-493F-8C01-5F44E8B8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0E9-B602-43F3-AF4B-D7032433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4C2-A94C-4ABE-A7F0-BE3BC6FC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929-0696-423A-A93B-44837CE1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DD6-E815-44B5-ADC7-27A2E82F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DD5-946B-42BC-8C72-23D4FB3F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CC6E-8BCC-4401-9334-9460BC13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9DB-5C1B-445C-874F-428E8BBD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274-DB65-401F-88E8-6ED4D437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760B-4466-40AA-8C19-91D3EF4C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A2F-67A6-4221-B985-388D94C6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260-7DE3-4259-8E49-A0B7FA8A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9A7E-657C-495B-AECF-8399F9C64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yra Quiñó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yra Quiñónez 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ías ¿Cómo están uste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i nombre es Mayra. Vivo en Astoria, New York con mis dos hermanas y con mi hermano. Tengo catorce años. Yo soy alta pero soy calmada tambié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tal. ¿cómo están todos? Yo estoy feliz Porque ya viene la navidad.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Yo estoy muy bien y tu como  esta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ec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743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4:48:02Z</dcterms:created>
  <dc:creator>FriscoISD</dc:creator>
  <dc:description/>
  <dc:language>en-US</dc:language>
  <cp:lastModifiedBy>NYCDOE</cp:lastModifiedBy>
  <dcterms:modified xsi:type="dcterms:W3CDTF">2012-12-04T15:02:13Z</dcterms:modified>
  <cp:revision>104</cp:revision>
  <dc:subject/>
  <dc:title>Profile</dc:title>
</cp:coreProperties>
</file>